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E70A-2F8A-4B2E-8646-1279A010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B3D-DF5C-46AC-A201-4BDD8D80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CB95-72BE-435F-92E5-2854120C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D0BD-8DB8-44F8-8514-3CCC7F1A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1D4D-5F9F-40B8-BF37-0EA60718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0FD7-8709-4478-AD69-29CE2D82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7A85-2122-4D8A-915B-10A572B5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E34B-11CF-4B4E-B635-DEB3E247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F10F-91B1-4BA1-A2F7-2D7634EF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CF0C-2F63-4100-AFCC-5F959338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8C66-1A0F-4588-9E73-BC201F49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D21-F17D-4B2F-8444-4CE3D281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8B17-EFBA-4AF2-ABF3-03C332AF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6C3D-1CC7-4778-820E-8C440F19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217D-5CD6-4AE1-B3A0-7421D1B9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0F49-C26F-4958-AF62-83A2CBC9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64FC-6F3C-4DE0-8DDD-AE5025F9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E117-E468-41DD-93D7-BCD032A0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62EE-4826-4CE3-9969-AFE43964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F0B-5BCD-4180-A7D6-E4F96A5D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FA6C-6884-4010-B6A5-BBE8AD94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9E6E-95FF-4C4D-9A84-883E3E22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2EE-1E39-490E-89E1-31E0A768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E92-BEA9-40FB-B5A0-142E8E37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0F65-82B5-4A59-B9D4-270DABA23DC7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1BE3-0C2C-416F-BA1B-FC372BDC2342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fff00"/>
                </a:solidFill>
                <a:latin typeface="Tahoma"/>
              </a:rPr>
              <a:t>الوقاية من العنف الأ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د. فضيلة المحرو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لجنة حماية الطفل – وزارة الصحة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،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البحري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المؤتمر العربي الاقليمي  لحماية الأسرة من العن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عمان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ديسمبر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أهم التحديات في مواجهة</a:t>
            </a:r>
            <a:r>
              <a:rPr b="1" lang="ar-BH" sz="3200" spc="-1" strike="noStrike">
                <a:solidFill>
                  <a:srgbClr val="eaeaea"/>
                </a:solidFill>
                <a:latin typeface="Tahoma"/>
              </a:rPr>
              <a:t> العنف الاسري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صانة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جتماع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قانونية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دى الرج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امتلاك المرأة لقرار الطلا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حق الرجل المطل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وجود البدائ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أفض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توفر الخدمات الحكومية او الدعم من مؤسسات المجتمع المدن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وقاية من العنف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 انهاء الحصانة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القانونية</a:t>
            </a: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ظر العنف و تجريم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ؤامة قوانين الاسرة مع حقوق الانسان و الاتفاقيات الدول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ستناد الى سماحة الشريعة و ليس التفسير الضي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له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أصلاح القضا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عنف الأسري  في البرامج التعليمية و التدريبية للقضاة و الشرط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رش عمل متعددة التخصص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وقاية من العنف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 انهاء الحصانة الاجتماعية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غيير النفوس قبل النصوص \ تغيير القيم الاجتما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نظر للعنف الاسري كقضية اجتماع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صحية و قانون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عنف الاسري هو ايذاء و سوء معاملة و انتهاك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قوق الانسا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يس تأديب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لمرأ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طلوب وضع حدا للعنف و ليس للحياة الزوج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000" spc="-1" strike="noStrike">
                <a:solidFill>
                  <a:srgbClr val="eaeaea"/>
                </a:solidFill>
                <a:latin typeface="Tahoma"/>
              </a:rPr>
              <a:t>الوقاية من العنف -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تصدي للعوامل المسببة أو المترافقة مع العنف  مثل محاربة الأمية ، الجهل ، الفقر و البطال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ضع حدا للزواج المبكر و التب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ين العمر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تنمية المهارات الوالد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نشئة الاجتماعية و نبذ العنف كأسلوب لحل الخلاف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كاتب للتوجيه و الارشاد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وعية المجتمع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حول الظاهر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جراء دراسات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حول العن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واقع سوء معاملة الأطفال في الوطن العربي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2130120"/>
            <a:ext cx="7543800" cy="35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هناك العديد من الأطفال يعانون من سوء المعاملة و المجتمع عاجز عن حمايت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نادرا ما يتحمل المعتدين مسئولية خطأهم و يستمرون في سلوك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محدودية صلاحيات و امكانيات الجهات المعنية بالحما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التنسيق بين الجهات المعنية دون المستوى المطلوب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Tahoma"/>
              </a:rPr>
              <a:t>التحديات التي تعرقل جهود التدخل و الوقاية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ظروف الاقتصادية للعائل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قيم و المفاهيم والسلوكيات الاجتماع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قصور التشريعات الوطنية و عدم موأمتها لاتفاقية حقوق الطف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عدم كفاية الردعية في العقوبات المقررة بحق المعتدي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جهاز قضائي غير مهيأ لتلبية احتياجات الاطفا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وقاية</a:t>
            </a:r>
            <a:r>
              <a:rPr b="1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الاولية:</a:t>
            </a:r>
            <a:r>
              <a:rPr b="1" lang="ar-SA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الاسرة</a:t>
            </a:r>
            <a:r>
              <a:rPr b="0" lang="ar-SA" sz="5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دريس المهارات الاجتماعية و الحياتية  بالمدار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دريس الصحة الانجابية بالمدار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ثقافة الأسرية و التدبير المنزلي لكل  المقبلين على الزواج ذكورا  و  إناث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سن قانون الزامية التعليم و وضع آليات تنفيذ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قانون لل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ا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حوال الشخصية ( سن الزواج &lt;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18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سنة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تمكين الاسرة العربية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تعليم + عمل + مسكن + ثقافة أسر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تدخل و العلاج – الوقاية الثالثة</a:t>
            </a:r>
            <a:r>
              <a:rPr b="0" lang="en-US" sz="5400" spc="-1" strike="noStrike">
                <a:solidFill>
                  <a:srgbClr val="eaeaea"/>
                </a:solidFill>
                <a:latin typeface="Tahoma"/>
                <a:ea typeface="Andalus"/>
              </a:rPr>
              <a:t>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مراكز لتقديم الخدمة الصحية و النفسية و الاجتماعية  و القانونية لضحايا الاعتداء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إعطاء صلاحيات و إمكانيات اكبر و تفرغ للهيئات المعنية بحماية الطف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آليات واضحة للتنسيق بين وزارات الصحة ، التعليم ، الشئون الاجتماعية ، العدل و الداخلي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تأهيل المعتدين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 بحوث ميدانية بمنهجية علمي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تدريب المهنيين المستم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وقاية 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– القانون و تطبيق العدالة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مراجعة و تعديل القوانين المتعلقة بحماية الطفل و موأمتها مع الاتفاقية الدولية لحقوق الطف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يجاد جهاز قضائي متخصص و متحسس و متجاوب مع حاجات الطفل و تعقيدات الاعتداءات ضمن نفس العائل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شديد العقوبات المقررة و تنفيذ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مراجعة و تعديل و تشديد القوانين المتعلقة بالعنف الاسري (ضد المرأة و الطفل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  <a:cs typeface="Times New Roman"/>
              </a:rPr>
              <a:t>الوقاية</a:t>
            </a:r>
            <a:r>
              <a:rPr b="1" lang="ar-SA" sz="4800" spc="-1" strike="noStrike">
                <a:solidFill>
                  <a:srgbClr val="eaeaea"/>
                </a:solidFill>
                <a:latin typeface="Tahoma"/>
                <a:ea typeface="Times New Roman"/>
              </a:rPr>
              <a:t> :  الاعلام و الثقافة</a:t>
            </a:r>
            <a:r>
              <a:rPr b="1" lang="ar-SA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خطة إعلامية لمحاربة أفلام العنف و الاباحية الجنس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وقاية الاطفال من الاستغلال الجنسي عبر الانترن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استخدام الامثل لوسائط الاعلام للتوعية حول ظاهرة سوء المعاملة و عواقبها و الوقاية من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محاربة الصورة النمطية للأسرة في الشاشة العربية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الأب المتسلط العنيف و الأم التي لا حول لها و لا قو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     و غياب التواصل و التعاطي السليم مع الخلاف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المحاور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ا هي المسببات \ العوامل المرافقة للعنف الاسري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ظاهر قبول العنف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ماذا ترضخ النساء للعنف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صدي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وقا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وقاية من ايذاء الأطف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ar-SA" sz="4000" spc="-1" strike="noStrike">
                <a:solidFill>
                  <a:srgbClr val="eaeaea"/>
                </a:solidFill>
                <a:latin typeface="Tahoma"/>
              </a:rPr>
              <a:t>الخلاصة التعاطي مع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العنف الأسري</a:t>
            </a:r>
            <a:r>
              <a:rPr b="1" lang="ar-SA" sz="4000" spc="-1" strike="noStrike">
                <a:solidFill>
                  <a:srgbClr val="eaeaea"/>
                </a:solidFill>
                <a:latin typeface="Tahoma"/>
              </a:rPr>
              <a:t> يتطلب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فهم أعمق للمشكلة يستند على الحقائ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رؤية مستقبلية ذات اهداف واضحة و محدد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اقرار الترابط بين الوقاية و التدخل و تحميل الجاني المسئولي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الشراكة و 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العمل معا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كسر الحلقة المفرغة  من أين نبدأ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حجم المشكلة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0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 البحري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4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ص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52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ضفة الغربية و قطاع غزة (السنة الماضي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في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مسيرة جماهيرية كبيرة تعتبر الأكبر من حيث العدد في تاريخ البحرين قدرت بحوالي مائة وعشرين ألف مشارك من الجنسين تقدمها علماء الدين عصر يوم اليوم الأربعاء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 نوفمبر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في منطقة المنامة ط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لبت بضمانات شرعية وفقهية لإصدار قانون أحكام الأسرة الذي تنوي السلطة البحرينية إصداره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كانت المسيرة قد بدأ من منحنى مجمع جيان في منطقة سنابس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بينما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صل رأس المسيرة إلى بداية كوبري اللؤلؤة حيث قدر طولها بكيلومترين، وبعرض ثلاثين شخص في كل صف في المتوسط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838080"/>
            <a:ext cx="58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5715000"/>
            <a:ext cx="5181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000" spc="-1" strike="noStrike">
                <a:solidFill>
                  <a:srgbClr val="eaeaea"/>
                </a:solidFill>
                <a:latin typeface="Tahoma"/>
              </a:rPr>
              <a:t>في مصر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ن النسا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65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% من المتعلم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69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ن العامل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يوافقن على حق الرجل في ضرب المرأ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سباب المبررة: رفض الجنس ، عدم طاعة الرجل ، إهمال الاطفا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ما هي المسببات \ العوامل المرافقة للعنف الاسري</a:t>
            </a:r>
            <a:r>
              <a:rPr b="1" lang="ar-BH" sz="4800" spc="-1" strike="noStrike">
                <a:solidFill>
                  <a:srgbClr val="eaeaea"/>
                </a:solidFill>
                <a:latin typeface="Tahoma"/>
              </a:rPr>
              <a:t>؟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عرض للعنف كطف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حلقة العنف المفرغ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وضع الاقتصا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تحصيل العلم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مهارات الاجتماعي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مهارات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والدي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 التواصل العائل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ضطراب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ت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شخص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أمراض النفسية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ادما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يم الاجتماعية و التقال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انو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قيم الاجتماعية و التقاليد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2819160"/>
            <a:ext cx="7543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تجاهل العنف و تحمله بل و قبوله اجتماعي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رفض العنف الاسري = هدم القيم العائلية و التقاليد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!!!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بقاء الاسرة معا تعلو فوق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كل اعتبار!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العنف ال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أ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سري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شأن عائلي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 خا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العنف هو حق للرجل و تنفيذا للارادة الاله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القانون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و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انون اذا لم يجيزه فهو لا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يمنعه او يجرم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فرض الزواج خصوصا المبكر و تزويج القاصر هو نوعا من العنف؟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ديان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تستند  على العدال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 الحق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 المودة و الرحمة ولايمكن أن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جيز العنف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فسير الضيق للشريعة لتبرير التقاليد المجتمعية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عطاء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معنف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حصانة لممارسة العن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مظاهر قبول 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ياب القانو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تجاهل القضاة الشرعي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صعوبة اثبات الضر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ض النظر من قبل الدولة و المجتم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ياب خدمات الايواء و المساعدة القانونية و الاجتما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6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قصور في خدمات الوقا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عدم التبليغ عن حالات 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خو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نكا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خشية من نبذ المجتم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قبول المجتمع للع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ف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جاهل المؤسسة الرسم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لماذا ترضخ النساء للعنف؟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قناعة غالبية النساء بأن هذا حقا للرج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عتماد الاقتصادي على الرج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عدم قدر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رأ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على الاستقل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في منزل منفص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ضغوط الاجتماعية للحفاظ على العائ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وقف المجتمعي من المطلق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القدرة على الطلا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خوف من فقدان الحضان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فقدان الامل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في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الة القضا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ا</a:t>
            </a: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ذا المَسيرةُ سُئَلَتْ بأيّ عقلٍ خََرَجَت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وإذا الحماقة استُجوِبت بأي دافع كتب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وإذا الأسئِلةُ سُئِـلَت بأي ذَنبِ قُـمِعَت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6:06:42Z</dcterms:created>
  <dc:creator>user</dc:creator>
  <dc:description/>
  <dc:language>en-US</dc:language>
  <cp:lastModifiedBy>MOHAMMED</cp:lastModifiedBy>
  <dcterms:modified xsi:type="dcterms:W3CDTF">2008-11-07T17:57:36Z</dcterms:modified>
  <cp:revision>24</cp:revision>
  <dc:subject/>
  <dc:title>الوقاية من العنف الأسري</dc:title>
</cp:coreProperties>
</file>